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4F65-EF60-46E6-8FF6-1536B43B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799-C688-42C5-9704-99D6546B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ttom picture are the Ural Mountains and the top pictures is Mount Ev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4D71-5593-4EBD-BCC3-9585DF96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Lake Baik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E328-EB70-43F7-8C33-FC37923E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7C10-85F6-4340-91A1-3A9FBC92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4F21-2DC7-455B-9A53-F64E2A1E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E448-8C73-46F3-A7F6-65A4289A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AAD-F4B1-4CAE-B3E3-1D69899C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AF9-5ED8-45B7-88AB-3C2819D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957-2DE3-451E-BF55-58360548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940-7824-446F-B1D7-DDA64AF7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2DC-58CD-4BB2-AC8B-EF78463A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366-7764-4DB2-A44A-157C0DF9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6D1-4459-4300-ADFE-B0EA3D14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18B-1279-4361-AA23-F5C4D484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C8D-1986-4F4B-929E-274EACB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B9F-0D98-432C-B1FD-A4A3586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262-F4CA-40CD-8789-AF7DB89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A25-3FC5-472F-B75D-79AA173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7689-4397-4B8C-92C7-2ED85EFD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estwaytoinvest.com/UserFiles/Image/Russia-c.jpg&amp;imgrefurl=http://www.bestwaytoinvest.com/russia&amp;usg=__8TcAv4irTc9FYSTZYKTShQ55trI=&amp;h=705&amp;w=663&amp;sz=82&amp;hl=en&amp;start=2&amp;zoom=1&amp;itbs=1&amp;tbnid=vS0nfjQiHHezBM:&amp;tbnh=140&amp;tbnw=132&amp;prev=/images%3Fq%3Drussia%26hl%3De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cpc.unc.edu/projects/rlms/images/russia_home_upper_banner.jpg&amp;imgrefurl=http://www.cpc.unc.edu/projects/rlms/&amp;usg=__VbwQTSRXNi7caYhTaUv9xfgWLRg=&amp;h=308&amp;w=509&amp;sz=51&amp;hl=en&amp;start=20&amp;zoom=1&amp;itbs=1&amp;tbnid=z8jXwAd24eb_mM:&amp;tbnh=79&amp;tbnw=131&amp;prev=/images%3Fq%3Drussia%26hl%3Den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15228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4784760"/>
            <a:ext cx="4219560" cy="208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t0.gstatic.com/images?q=tbn:Snp4BfHeRDaGl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211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13716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good navigable rivers in Russi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 plains in Russia that are very good for farmin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because of how cold it is, the rivers are froz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lso too cold for farming in the pl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2203200" y="4565160"/>
            <a:ext cx="1790640" cy="179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5562720" y="4640040"/>
            <a:ext cx="1676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bugbog.com/images/galleries/russia_pictures/russia_pictures_door.jpg"/>
          <p:cNvPicPr/>
          <p:nvPr/>
        </p:nvPicPr>
        <p:blipFill>
          <a:blip r:embed="rId2"/>
          <a:stretch/>
        </p:blipFill>
        <p:spPr>
          <a:xfrm rot="20713200">
            <a:off x="34920" y="363240"/>
            <a:ext cx="298116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t3.gstatic.com/images?q=tbn:vS0nfjQiHHezBM: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6148440" y="29988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3.gstatic.com/images?q=tbn:z8jXwAd24eb_mM:">
            <a:hlinkClick r:id="rId5"/>
          </p:cNvPr>
          <p:cNvPicPr/>
          <p:nvPr/>
        </p:nvPicPr>
        <p:blipFill>
          <a:blip r:embed="rId6"/>
          <a:stretch/>
        </p:blipFill>
        <p:spPr>
          <a:xfrm rot="1244400">
            <a:off x="-108000" y="3993840"/>
            <a:ext cx="3432240" cy="20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t0.gstatic.com/images?q=tbn:C-J8fZYhz3QvyM:">
            <a:hlinkClick r:id="rId7"/>
          </p:cNvPr>
          <p:cNvPicPr/>
          <p:nvPr/>
        </p:nvPicPr>
        <p:blipFill>
          <a:blip r:embed="rId8"/>
          <a:stretch/>
        </p:blipFill>
        <p:spPr>
          <a:xfrm rot="20616600">
            <a:off x="3189240" y="1741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2.gstatic.com/images?q=tbn:gVg60s1Mqu7dKM:"/>
          <p:cNvPicPr/>
          <p:nvPr/>
        </p:nvPicPr>
        <p:blipFill>
          <a:blip r:embed="rId9"/>
          <a:stretch/>
        </p:blipFill>
        <p:spPr>
          <a:xfrm rot="1156200">
            <a:off x="5589720" y="3828600"/>
            <a:ext cx="3112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Emilka</dc:creator>
  <dc:description/>
  <dc:language>en-US</dc:language>
  <cp:lastModifiedBy>Emilka</cp:lastModifiedBy>
  <dcterms:modified xsi:type="dcterms:W3CDTF">2010-12-20T13:03:27Z</dcterms:modified>
  <cp:revision>7</cp:revision>
  <dc:subject/>
  <dc:title>LAND IN RUSSIA</dc:title>
</cp:coreProperties>
</file>